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43E-6809-4825-B398-7E536EFD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0B3-8159-4BFF-A28E-D0290B7F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4F03-0BF5-48D9-A6F8-50C916B3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8D0E-0921-4E0D-8B52-113EAEF3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5BEF-6114-4DBA-A36C-E01B6E49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0B0E-E8D3-4FFA-92E3-1031FB48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21F3-B732-4191-8342-BAC08983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AD84-EC18-448E-B13A-F8EAC866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5D23-E80D-4FB0-ADD5-94C0707C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265A-AB2C-47B9-86E7-1D4F405F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AAF6-EBEA-4A2D-AB95-30D6E462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90C7-9BCF-4379-955D-21F451C8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82B7-1461-480B-9E4E-9C040A0F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54B3-8821-4706-8BD2-23A7F68A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799B-1C0F-46A0-9050-AFA7B6CF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686A-2F51-4C16-8AEA-B42DB933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01C8-91F2-4468-B2E7-4DF02307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577C-C579-4F65-AAEC-F11C1E59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8505-D4C1-4E9C-B5E4-5B5BA614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86C-47FF-44DD-91AB-913FA9F9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E601-C1D7-4846-8144-78B1D9A2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E54-B9A6-4E4C-BCEA-004B7E61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E495-C52F-4CEB-B7B9-F694CA35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7E7-2B8F-45D7-B18A-D0F2B014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80A1-A929-468D-BB69-93D4A8EABF3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1076-CA79-4D7E-9178-3978D830068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Nervous System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 neur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tor Neur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rons that carry such signals away form the CNS (brain &amp; spinal cord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otor neurons target the following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diac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and  to secrete a horm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.g. S.A. node of the right atr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bundles of nerves that detects blood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stalsis-contraction of the esophag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strin- a hormone released in the stomach to aid in dig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nee-Jerk Reflex: An Examp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swer the following and place into composition boo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the two subdivisions of the nervous system, and list the nervous system’s three main fun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how the three types of neurons are involved in a simple reflex ar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 two examples of environmental stimuli other than those discussed in the tex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uron is a ce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ny neurons are in your nervous syste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pheral Nervous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st of 2 com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sory neur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or neur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ysiology of P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eives information about an environmental change, or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imul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 are the follow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nge in temper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p on the shou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nsory neuron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rons that carry information about stimuli to the CNS-Central Nervous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w do sensory neurons detect a stimuli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 on next sl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nsory recepto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stimuli are received by receptors located on the membrane of nerve ce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eg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he CNS interprets the information from sensory neurons, integration takes place. This step involves neurons located entirely within the CNS (Brain &amp; Spinal Cord) and between gray and white ma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that interpret information are called interneur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w do signals or information transfer to other parts of the body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01:42:28Z</dcterms:created>
  <dc:creator>Dischie</dc:creator>
  <dc:description/>
  <dc:language>en-US</dc:language>
  <cp:lastModifiedBy>user</cp:lastModifiedBy>
  <dcterms:modified xsi:type="dcterms:W3CDTF">2007-02-08T17:00:41Z</dcterms:modified>
  <cp:revision>4</cp:revision>
  <dc:subject/>
  <dc:title>Nervous System</dc:title>
</cp:coreProperties>
</file>